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6C7F-61F7-4091-89E1-D011E5008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1F49-FB8F-410F-BEF8-552A04E1F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6801-0BEA-4331-905C-CFBA6CBDC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A42E-82FB-45F6-B06D-A223D4A1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3E4A-02F4-40B4-BC2D-454C24C1E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1B94-7410-4206-92BB-AF93024CB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2D02-8894-4F15-AC9D-32F77091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AC9E-12D5-4A2C-AEFC-3154AFBE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87D9-E465-48CD-9568-190281E3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4B95-3FC9-4757-B291-67346DBE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547F-2867-4A41-BC9B-B4EA957D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8629-5118-455E-81D0-E474B35D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DEF4-1F6A-4C68-B1BF-06563749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C6C7-BE87-4476-B328-53072453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F2B0-4A21-4D67-9F43-625DF295CB8E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"/><Relationship Id="rId6" Type="http://schemas.openxmlformats.org/officeDocument/2006/relationships/slide" Target="slide29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4.xml"/><Relationship Id="rId12" Type="http://schemas.openxmlformats.org/officeDocument/2006/relationships/slide" Target="slide19.xml"/><Relationship Id="rId13" Type="http://schemas.openxmlformats.org/officeDocument/2006/relationships/slide" Target="slide24.xml"/><Relationship Id="rId14" Type="http://schemas.openxmlformats.org/officeDocument/2006/relationships/slide" Target="slide10.xml"/><Relationship Id="rId15" Type="http://schemas.openxmlformats.org/officeDocument/2006/relationships/slide" Target="slide15.xml"/><Relationship Id="rId16" Type="http://schemas.openxmlformats.org/officeDocument/2006/relationships/slide" Target="slide20.xml"/><Relationship Id="rId17" Type="http://schemas.openxmlformats.org/officeDocument/2006/relationships/slide" Target="slide25.xml"/><Relationship Id="rId18" Type="http://schemas.openxmlformats.org/officeDocument/2006/relationships/slide" Target="slide11.xml"/><Relationship Id="rId19" Type="http://schemas.openxmlformats.org/officeDocument/2006/relationships/slide" Target="slide12.xml"/><Relationship Id="rId20" Type="http://schemas.openxmlformats.org/officeDocument/2006/relationships/slide" Target="slide13.xml"/><Relationship Id="rId21" Type="http://schemas.openxmlformats.org/officeDocument/2006/relationships/slide" Target="slide16.xml"/><Relationship Id="rId22" Type="http://schemas.openxmlformats.org/officeDocument/2006/relationships/slide" Target="slide21.xml"/><Relationship Id="rId23" Type="http://schemas.openxmlformats.org/officeDocument/2006/relationships/slide" Target="slide26.xml"/><Relationship Id="rId24" Type="http://schemas.openxmlformats.org/officeDocument/2006/relationships/slide" Target="slide17.xml"/><Relationship Id="rId25" Type="http://schemas.openxmlformats.org/officeDocument/2006/relationships/slide" Target="slide22.xml"/><Relationship Id="rId26" Type="http://schemas.openxmlformats.org/officeDocument/2006/relationships/slide" Target="slide27.xml"/><Relationship Id="rId27" Type="http://schemas.openxmlformats.org/officeDocument/2006/relationships/slide" Target="slide18.xml"/><Relationship Id="rId28" Type="http://schemas.openxmlformats.org/officeDocument/2006/relationships/slide" Target="slide23.xml"/><Relationship Id="rId29" Type="http://schemas.openxmlformats.org/officeDocument/2006/relationships/slide" Target="slide28.xml"/><Relationship Id="rId30" Type="http://schemas.openxmlformats.org/officeDocument/2006/relationships/slide" Target=""/><Relationship Id="rId3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838080" y="304920"/>
            <a:ext cx="67820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80880" y="3200400"/>
            <a:ext cx="838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Choose a category. 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will be given the answer. 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must give the correct question.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" name="AutoShape 7">
            <a:hlinkClick r:id="rId1" action="ppaction://hlinksldjump"/>
          </p:cNvPr>
          <p:cNvSpPr/>
          <p:nvPr/>
        </p:nvSpPr>
        <p:spPr>
          <a:xfrm>
            <a:off x="5867280" y="53341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" action="ppaction://hlinksldjump"/>
              </a:rPr>
              <a:t>Click to begin.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685800" y="1905120"/>
            <a:ext cx="7696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-5 - 16</a:t>
            </a:r>
            <a:endParaRPr b="1" lang="en-US" sz="9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09480" y="1981080"/>
            <a:ext cx="7925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-13 – (-12)</a:t>
            </a:r>
            <a:endParaRPr b="1" lang="en-US" sz="9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533520" y="19810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45 – (-17)</a:t>
            </a:r>
            <a:endParaRPr b="1" lang="en-US" sz="9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533520" y="1905120"/>
            <a:ext cx="8076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-23 - 17</a:t>
            </a:r>
            <a:endParaRPr b="1" lang="en-US" sz="9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609480" y="1752480"/>
            <a:ext cx="7925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2 </a:t>
            </a:r>
            <a:r>
              <a:rPr b="1" lang="en-US" sz="9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·</a:t>
            </a: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 -3</a:t>
            </a:r>
            <a:endParaRPr b="1" lang="en-US" sz="9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609480" y="205740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-7 </a:t>
            </a:r>
            <a:r>
              <a:rPr b="1" lang="en-US" sz="9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·</a:t>
            </a: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 -11</a:t>
            </a:r>
            <a:endParaRPr b="1" lang="en-US" sz="9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609480" y="1981080"/>
            <a:ext cx="7925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-12 </a:t>
            </a:r>
            <a:r>
              <a:rPr b="1" lang="en-US" sz="9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·</a:t>
            </a: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 5</a:t>
            </a:r>
            <a:endParaRPr b="1" lang="en-US" sz="9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533520" y="1752480"/>
            <a:ext cx="8076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14 </a:t>
            </a:r>
            <a:r>
              <a:rPr b="1" lang="en-US" sz="9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·</a:t>
            </a: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 4</a:t>
            </a:r>
            <a:endParaRPr b="1" lang="en-US" sz="9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533520" y="1752480"/>
            <a:ext cx="8076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-21 </a:t>
            </a:r>
            <a:r>
              <a:rPr b="1" lang="en-US" sz="9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·</a:t>
            </a: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 -11</a:t>
            </a:r>
            <a:endParaRPr b="1" lang="en-US" sz="9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609480" y="144792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8 </a:t>
            </a:r>
            <a:r>
              <a:rPr b="1" lang="en-US" sz="9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÷</a:t>
            </a: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 -2</a:t>
            </a:r>
            <a:endParaRPr b="1" lang="en-US" sz="9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3"/>
          <p:cNvSpPr txBox="1"/>
          <p:nvPr/>
        </p:nvSpPr>
        <p:spPr>
          <a:xfrm>
            <a:off x="457200" y="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WordArt 5"/>
          <p:cNvSpPr txBox="1"/>
          <p:nvPr/>
        </p:nvSpPr>
        <p:spPr>
          <a:xfrm>
            <a:off x="1523880" y="198108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AutoShape 10">
            <a:hlinkClick r:id="rId5" action="ppaction://hlinksldjump"/>
          </p:cNvPr>
          <p:cNvSpPr/>
          <p:nvPr/>
        </p:nvSpPr>
        <p:spPr>
          <a:xfrm>
            <a:off x="5562720" y="4724280"/>
            <a:ext cx="2971800" cy="175284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36618" h="21600">
                <a:moveTo>
                  <a:pt x="0" y="0"/>
                </a:moveTo>
                <a:lnTo>
                  <a:pt x="36618" y="0"/>
                </a:lnTo>
                <a:lnTo>
                  <a:pt x="36618" y="21600"/>
                </a:lnTo>
                <a:lnTo>
                  <a:pt x="0" y="21600"/>
                </a:lnTo>
                <a:close/>
              </a:path>
              <a:path fill="lightenLess" w="36618" h="21600">
                <a:moveTo>
                  <a:pt x="0" y="0"/>
                </a:moveTo>
                <a:lnTo>
                  <a:pt x="36618" y="0"/>
                </a:lnTo>
                <a:lnTo>
                  <a:pt x="35218" y="1400"/>
                </a:lnTo>
                <a:lnTo>
                  <a:pt x="1400" y="1400"/>
                </a:lnTo>
                <a:close/>
              </a:path>
              <a:path fill="darken" w="36618" h="21600">
                <a:moveTo>
                  <a:pt x="36618" y="0"/>
                </a:moveTo>
                <a:lnTo>
                  <a:pt x="36618" y="21600"/>
                </a:lnTo>
                <a:lnTo>
                  <a:pt x="35218" y="20200"/>
                </a:lnTo>
                <a:lnTo>
                  <a:pt x="35218" y="1400"/>
                </a:lnTo>
                <a:close/>
              </a:path>
              <a:path fill="darkenLess" w="36618" h="21600">
                <a:moveTo>
                  <a:pt x="36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18" y="20200"/>
                </a:lnTo>
                <a:close/>
              </a:path>
              <a:path fill="lighten" w="36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79132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Click here for Final Jeopardy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609480" y="190512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-48 </a:t>
            </a:r>
            <a:r>
              <a:rPr b="1" lang="en-US" sz="9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÷</a:t>
            </a: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 -8</a:t>
            </a:r>
            <a:endParaRPr b="1" lang="en-US" sz="9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762120" y="1981080"/>
            <a:ext cx="7619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-72 </a:t>
            </a:r>
            <a:r>
              <a:rPr b="1" lang="en-US" sz="9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÷</a:t>
            </a: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 9</a:t>
            </a:r>
            <a:endParaRPr b="1" lang="en-US" sz="9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533520" y="198108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121 </a:t>
            </a:r>
            <a:r>
              <a:rPr b="1" lang="en-US" sz="9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÷</a:t>
            </a: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 -11</a:t>
            </a:r>
            <a:endParaRPr b="1" lang="en-US" sz="9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609480" y="1600200"/>
            <a:ext cx="7925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-256 </a:t>
            </a:r>
            <a:r>
              <a:rPr b="1" lang="en-US" sz="9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÷</a:t>
            </a: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 64</a:t>
            </a:r>
            <a:endParaRPr b="1" lang="en-US" sz="9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609480" y="114300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temperature when it is 70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º and it drops 5º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533520" y="91440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temperature when it is 5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º below zero and it goes up 17º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685800" y="11430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My balance when I owe John $26 and I give him $19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533520" y="609480"/>
            <a:ext cx="784836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9933"/>
                </a:solidFill>
                <a:latin typeface="Times New Roman"/>
              </a:rPr>
              <a:t>The balance when Joe deposits $113 into an account that was $40 in debt. </a:t>
            </a:r>
            <a:endParaRPr b="1" lang="en-US" sz="7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85800" y="83808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temperature when it starts at 3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º below zero and drops 18º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1066680" y="175248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191120" y="510552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Make your wager</a:t>
            </a:r>
            <a:endParaRPr b="1" lang="en-US" sz="3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3">
            <a:hlinkClick r:id="rId1" action="ppaction://hlinksldjump"/>
          </p:cNvPr>
          <p:cNvSpPr/>
          <p:nvPr/>
        </p:nvSpPr>
        <p:spPr>
          <a:xfrm>
            <a:off x="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Adding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Integers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" name="AutoShape 24">
            <a:hlinkClick r:id="rId2" action="ppaction://hlinksldjump"/>
          </p:cNvPr>
          <p:cNvSpPr/>
          <p:nvPr/>
        </p:nvSpPr>
        <p:spPr>
          <a:xfrm>
            <a:off x="18288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ubtracting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Integers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" name="AutoShape 26">
            <a:hlinkClick r:id="rId3" action="ppaction://hlinksldjump"/>
          </p:cNvPr>
          <p:cNvSpPr/>
          <p:nvPr/>
        </p:nvSpPr>
        <p:spPr>
          <a:xfrm>
            <a:off x="54864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Dividing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Integers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" name="AutoShape 27">
            <a:hlinkClick r:id="rId4" action="ppaction://hlinksldjump"/>
          </p:cNvPr>
          <p:cNvSpPr/>
          <p:nvPr/>
        </p:nvSpPr>
        <p:spPr>
          <a:xfrm>
            <a:off x="734364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Integer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Word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Problems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" name="AutoShape 29"/>
          <p:cNvSpPr/>
          <p:nvPr/>
        </p:nvSpPr>
        <p:spPr>
          <a:xfrm>
            <a:off x="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5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" name="AutoShape 30"/>
          <p:cNvSpPr/>
          <p:nvPr/>
        </p:nvSpPr>
        <p:spPr>
          <a:xfrm>
            <a:off x="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1" name="AutoShape 31"/>
          <p:cNvSpPr/>
          <p:nvPr/>
        </p:nvSpPr>
        <p:spPr>
          <a:xfrm>
            <a:off x="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7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2" name="AutoShape 32"/>
          <p:cNvSpPr/>
          <p:nvPr/>
        </p:nvSpPr>
        <p:spPr>
          <a:xfrm>
            <a:off x="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8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3" name="AutoShape 33"/>
          <p:cNvSpPr/>
          <p:nvPr/>
        </p:nvSpPr>
        <p:spPr>
          <a:xfrm>
            <a:off x="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9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4" name="AutoShape 34"/>
          <p:cNvSpPr/>
          <p:nvPr/>
        </p:nvSpPr>
        <p:spPr>
          <a:xfrm>
            <a:off x="18288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0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5" name="AutoShape 35"/>
          <p:cNvSpPr/>
          <p:nvPr/>
        </p:nvSpPr>
        <p:spPr>
          <a:xfrm>
            <a:off x="36576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1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6" name="AutoShape 36"/>
          <p:cNvSpPr/>
          <p:nvPr/>
        </p:nvSpPr>
        <p:spPr>
          <a:xfrm>
            <a:off x="54864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2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7" name="AutoShape 37"/>
          <p:cNvSpPr/>
          <p:nvPr/>
        </p:nvSpPr>
        <p:spPr>
          <a:xfrm>
            <a:off x="734364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3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8" name="AutoShape 39"/>
          <p:cNvSpPr/>
          <p:nvPr/>
        </p:nvSpPr>
        <p:spPr>
          <a:xfrm>
            <a:off x="18288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4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AutoShape 40"/>
          <p:cNvSpPr/>
          <p:nvPr/>
        </p:nvSpPr>
        <p:spPr>
          <a:xfrm>
            <a:off x="36576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5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0" name="AutoShape 41"/>
          <p:cNvSpPr/>
          <p:nvPr/>
        </p:nvSpPr>
        <p:spPr>
          <a:xfrm>
            <a:off x="54864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6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1" name="AutoShape 42"/>
          <p:cNvSpPr/>
          <p:nvPr/>
        </p:nvSpPr>
        <p:spPr>
          <a:xfrm>
            <a:off x="734364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7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2" name="AutoShape 44"/>
          <p:cNvSpPr/>
          <p:nvPr/>
        </p:nvSpPr>
        <p:spPr>
          <a:xfrm>
            <a:off x="18288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8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3" name="AutoShape 45"/>
          <p:cNvSpPr/>
          <p:nvPr/>
        </p:nvSpPr>
        <p:spPr>
          <a:xfrm>
            <a:off x="18288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9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4" name="AutoShape 46"/>
          <p:cNvSpPr/>
          <p:nvPr/>
        </p:nvSpPr>
        <p:spPr>
          <a:xfrm>
            <a:off x="18288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0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5" name="AutoShape 47"/>
          <p:cNvSpPr/>
          <p:nvPr/>
        </p:nvSpPr>
        <p:spPr>
          <a:xfrm>
            <a:off x="36576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1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6" name="AutoShape 48"/>
          <p:cNvSpPr/>
          <p:nvPr/>
        </p:nvSpPr>
        <p:spPr>
          <a:xfrm>
            <a:off x="54864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2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7" name="AutoShape 49"/>
          <p:cNvSpPr/>
          <p:nvPr/>
        </p:nvSpPr>
        <p:spPr>
          <a:xfrm>
            <a:off x="734364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3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AutoShape 51"/>
          <p:cNvSpPr/>
          <p:nvPr/>
        </p:nvSpPr>
        <p:spPr>
          <a:xfrm>
            <a:off x="36576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4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9" name="AutoShape 52"/>
          <p:cNvSpPr/>
          <p:nvPr/>
        </p:nvSpPr>
        <p:spPr>
          <a:xfrm>
            <a:off x="54864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5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0" name="AutoShape 53"/>
          <p:cNvSpPr/>
          <p:nvPr/>
        </p:nvSpPr>
        <p:spPr>
          <a:xfrm>
            <a:off x="734364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6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1" name="AutoShape 55"/>
          <p:cNvSpPr/>
          <p:nvPr/>
        </p:nvSpPr>
        <p:spPr>
          <a:xfrm>
            <a:off x="36576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7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2" name="AutoShape 56"/>
          <p:cNvSpPr/>
          <p:nvPr/>
        </p:nvSpPr>
        <p:spPr>
          <a:xfrm>
            <a:off x="54864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8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3" name="AutoShape 57"/>
          <p:cNvSpPr/>
          <p:nvPr/>
        </p:nvSpPr>
        <p:spPr>
          <a:xfrm>
            <a:off x="734364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9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4" name="AutoShape 60">
            <a:hlinkClick r:id="rId30" action="ppaction://hlinksldjump"/>
          </p:cNvPr>
          <p:cNvSpPr/>
          <p:nvPr/>
        </p:nvSpPr>
        <p:spPr>
          <a:xfrm>
            <a:off x="36576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Multiplying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Integers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>
            <a:hlinkClick r:id="" action="ppaction://hlinkshowjump?jump=las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685800" y="13716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rule for multiplying or dividing integers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–21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38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21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79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–8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–7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–21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–1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62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38080" y="2133720"/>
            <a:ext cx="754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-6 + -15</a:t>
            </a:r>
            <a:endParaRPr b="1" lang="en-US" sz="9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–40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–6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77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–60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56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231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–4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6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–8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–11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914400" y="1981080"/>
            <a:ext cx="746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25 + 13</a:t>
            </a:r>
            <a:endParaRPr b="1" lang="en-US" sz="9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–4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762120" y="1371600"/>
            <a:ext cx="7848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70 + -5 = 65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685800" y="1447920"/>
            <a:ext cx="7848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–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5 + 17 = 12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685800" y="1523880"/>
            <a:ext cx="7848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-26 + 19 = -7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685800" y="1752480"/>
            <a:ext cx="7848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113 + 40 = 73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85800" y="1523880"/>
            <a:ext cx="7848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-3 + -18 = -21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609480" y="83808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“Same signs, positive.  Different signs, negative.”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2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685800" y="1828800"/>
            <a:ext cx="746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-15 + 36</a:t>
            </a:r>
            <a:endParaRPr b="1" lang="en-US" sz="9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685800" y="243828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89 + -10</a:t>
            </a:r>
            <a:endParaRPr b="1" lang="en-US" sz="9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8" name="AutoShape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685800" y="243828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56 + -64</a:t>
            </a:r>
            <a:endParaRPr b="1" lang="en-US" sz="9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533520" y="2057400"/>
            <a:ext cx="7924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ff9933"/>
                </a:solidFill>
                <a:latin typeface="Times New Roman"/>
              </a:rPr>
              <a:t>10 - 17</a:t>
            </a:r>
            <a:endParaRPr b="1" lang="en-US" sz="9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6:42:31Z</dcterms:created>
  <dc:creator>Valued Customer</dc:creator>
  <dc:description/>
  <dc:language>en-US</dc:language>
  <cp:lastModifiedBy>itls</cp:lastModifiedBy>
  <dcterms:modified xsi:type="dcterms:W3CDTF">2009-10-29T15:45:47Z</dcterms:modified>
  <cp:revision>22</cp:revision>
  <dc:subject/>
  <dc:title>No Slide Title</dc:title>
</cp:coreProperties>
</file>